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C5D4-70AF-44DA-BD01-350778142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D281-7BF5-42EA-AE96-C32C37250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9EEA-1F76-40B3-A150-E90E68159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0DED-A307-420E-B5CA-E8A6B045B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E4E9-8FD2-4F70-9FF5-39F10470E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7972-89C8-4B02-9207-69E084985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C58C-EEC6-4AAF-9197-8727E888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C41B-8D85-474D-94F1-8626F4E1D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D4CF-7BA7-4AEB-BC19-F63BE231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7418-0D79-4448-AD00-3927DC5D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1100-ECBA-45AB-9A86-B3F389FA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5C23-DF1D-4AAE-9504-3ECD5DA30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EA701-C3F9-438F-933B-E0BB5A6ACE30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627280" y="119700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18000" y="162864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686760" y="2133720"/>
            <a:ext cx="19468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СЕМИНАР БРОЈ 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1206720" y="2708280"/>
            <a:ext cx="6976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Рахитис и остеомалациј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Остеопороз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000" spc="-1" strike="noStrike">
                <a:solidFill>
                  <a:srgbClr val="ff0000"/>
                </a:solidFill>
                <a:latin typeface="Arial"/>
              </a:rPr>
              <a:t>Diabetes</a:t>
            </a:r>
            <a:r>
              <a:rPr b="1" i="1" lang="sr-RS" sz="4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sr-Latn-RS" sz="4000" spc="-1" strike="noStrike">
                <a:solidFill>
                  <a:srgbClr val="ff0000"/>
                </a:solidFill>
                <a:latin typeface="Arial"/>
              </a:rPr>
              <a:t>melli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5238000" y="6095880"/>
            <a:ext cx="250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</a:rPr>
              <a:t>Катедра за Физиолог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рок губитка коштане масе после менопаузе је првенствено недостатак естрогена, па примена естрогена зауставља напредовање болести развоја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рогени инхибишу секрецију цитокина као што су: интерлеукин-1(IL-1), IL-6 и фактор некрозе тумор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NF-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који иначе подстичу развој остеокл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Естрогени, такође, стимулишу стварање трансформишућег фактора раста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GF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 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који стимулише апоптозу остеоклас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убитак коштане масе, такође се може јавити код жена и мушкараца као резултат физичке неактивно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пацјената који су имобилизовани из било ког разлога, као и током летова у свемиру, ресорпција костију је интензивнија од стварања костију, и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еопороза услед неактивност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центрација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плазми није значајно повећана, а концентрације PTH и 1,25-дихидроксихолекалциферола у плазми су смањене, и велика количина Ca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+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е губи урин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392040" y="1412640"/>
            <a:ext cx="822960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Хормонска терапија се традиционално користи за лечење остеопоро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упституциона терапија естроген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започета непосредно након менопаузе, помаже у одржању густине ткива. Међутим, изгледа да чак и мале дозе естрогена могу повећати инциденцу тумора материце и дој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сто тако, у строго контролисаним студијама показано је да естрогени немају кардиопротективно дејств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тога, лечење жена естрогеном у менопаузи није више терапија избо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9204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локсифен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селективни модулатор рецептора за естроген) код жена у постменопаузи може да имитира корисне ефекте естрогена на густину костију, без неких ризика удружених са применом естроге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ђутим, примена овог лека носи  ризик од настанка нежељеног дејства (нпр. стварање тромб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хормонској терапији, такође се користе и калцитонин, као и аналог паратиреоидног хормона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ерипарати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392040" y="1844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тернатива хормонској терапији је приме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ифосфона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и лекови могу да спрече губитак коштане масе, очувају коштану масу, па чак и повећавају густину костију у кичменом стубу  куковима, смањујући тако ризик од настанка прело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жалост, ови лекови изазивају умерена и озбиљна нежељена дејства, и захтевају праћење пацијената током терап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392040" y="2420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ред терапије хормонима и лековима, и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физикална терапиј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омогућава одговарајуће повећање механичког оптерећења и снаге мишића, што значајно побољшава квалитет живо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360" y="2565000"/>
            <a:ext cx="77724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Latn-RS" sz="4400" spc="-1" strike="noStrike">
                <a:solidFill>
                  <a:srgbClr val="ff0000"/>
                </a:solidFill>
                <a:latin typeface="Arial"/>
              </a:rPr>
              <a:t>Diabetes mellitus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86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упа обољења проузрокована недостатком инсулина назива с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Грчки и римски лекари су користили термин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а означе стања у којима је главни налаз био велика количина урина, и разликовали су два тип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mellit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у коме је урин био сладак и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abetes insipitu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коме је урин био без укус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abetes insipit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анас термин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betes insipitu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значава стање у којем постоји дефицит у лучењу или деловању вазопресина, а не промењени термин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diabet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је опште прихваћен као синоним за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iabetes mellitu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роци настанка дијабет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зрок клиничког дијабетеса је увек недостатак ефеката инсулина на ткивном ниво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1 дијабет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нсулин зависни дијабете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D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је проузрикован недостатком инсулина услед аутоимунске деструкције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β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ћелија панкреасних острваца и чине 3-5% случајева и обично се јавља код дец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Тип 2 дијабетес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ли инсулин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зависни дијабете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IDD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карактерише поремећена регулација ослобађања инсулина удружена са инсулинском резистенцијом у периферним ткивима, као што су скелетни мишићи, мозак и јетра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Рахитис и остеомалација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имптоми дијабетес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Дијабетес карактериш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иуруја (излучивање велике количине урин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лидипсија (појачан унос течности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убитак тежине упркос полифагији (повећан апети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хиперглике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гликозур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ет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цидо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ком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Биохемијски поремећа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дијабетесу постоје многи биохемијски поремећаји, али основни дефекти на основу којих већина поремећаја може бити праћена с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мањен улазак глукозе у различита периферна ткива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Повећано ослобађање глукозе у циркулацију из јетр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бог тога постоји екстрацелуларни вишак глукозе и интрацелуларни недостатак глукозе (у многим ћелијама) - стање се назива гладовање поред изобиљ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акође, смањен је улазак аминокиселина у мишића, а повећана је липолиз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62000"/>
            <a:ext cx="8229600" cy="8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2040" y="206064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дијабетесу типа 1 основна терапија је обезбеђивање ендогеног инсулина пажљиво дозираног према уносу глукозе исхрано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дијабетесу тип 2 промене у стилу живота, као што су промене у исхрани или повећање физичке активности, често могу да одложе симптоме у раној фази болести, али је тешко бити сигуран у т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кови који повећавају осетљивост на инсулин представљају следећи избор у терапиј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достатак витамина D доводи до неправилне калцификације коштаног матрикса, при чему настај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хити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д деце, или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стеомал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код одрасли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ако је 1,25- дихидроксихоликалциферол неопходан за правилну минерализацију коштаног матрикса, главни узрок овог обољења је немогућност допремање довољних количина Ca и PО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до места минерализац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хитис и остеомалациј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да се стање развије у потпуности, код деце долази до слабости и деформитета дугих костију, оштећења зуба и хипокалцијемиј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д одраслих, ово стање изазива мање уочљиве симпт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Узроци настанк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2276280"/>
            <a:ext cx="822960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Раније је главни узрок настанка овог обољења  био недовољно излагање сунчевим зрацима у загађеним градови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У данашње време, ово обољење много чешће настаје услед недовољног уноса провитамина (који се у кожи трансформише под утицајем сунчевих зрак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утације као узрок настанка боле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557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во обољење такође може настати као због мутације гена за бубрежну 1 </a:t>
            </a:r>
            <a:r>
              <a:rPr b="0" lang="el-GR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хидроксилазу, или у тешким поремећајима функције бубрега и јетре, при чему нема одговора на примену витамина D, а постоји нормалан одговор на примену 1,25-дихидроксихолекалциферола (витамин D-резистентни рахитис тип I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ретким случајевима може постојати мутација гена за рецептор за 1,25- дихидроксихолекалциферол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итамин D-резистентни рахитис тип II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при чему постоји недовољан одговор на примену витамина Д као и за 1,25-дихидроксихолекалцифер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61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ерапијске смерни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Лечење се спроводи у зависности од биохемијске основе болес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утинска примена млека обогаћеног витамином D значајно је смањила појаву рахитиса у западним земљама, док је у земљама у развоју ова болест и даље једна од најчешћих у дечијем узрас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ешки облици болести понекад се морају хирушки третират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http://consultpoint.sk/wp-content/uploads/sites/8/2014/03/smernice-300x300.jpg"/>
          <p:cNvPicPr/>
          <p:nvPr/>
        </p:nvPicPr>
        <p:blipFill>
          <a:blip r:embed="rId1"/>
          <a:stretch/>
        </p:blipFill>
        <p:spPr>
          <a:xfrm>
            <a:off x="7236000" y="25560"/>
            <a:ext cx="1908000" cy="18190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http://gtbc.fm/wp-content/uploads/2015/09/vitamind.jpg"/>
          <p:cNvPicPr/>
          <p:nvPr/>
        </p:nvPicPr>
        <p:blipFill>
          <a:blip r:embed="rId2"/>
          <a:stretch/>
        </p:blipFill>
        <p:spPr>
          <a:xfrm>
            <a:off x="4643280" y="4508640"/>
            <a:ext cx="4249800" cy="226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4360" y="2133720"/>
            <a:ext cx="77724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r-RS" sz="4400" spc="-1" strike="noStrike">
                <a:solidFill>
                  <a:srgbClr val="ff0000"/>
                </a:solidFill>
                <a:latin typeface="Arial"/>
              </a:rPr>
              <a:t>Остеопороза</a:t>
            </a:r>
            <a:br>
              <a:rPr sz="5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155520" y="-1096920"/>
            <a:ext cx="285768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4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http://www.homeo-herb.com/wp-content/uploads/2013/05/osteoporoza.jpg"/>
          <p:cNvPicPr/>
          <p:nvPr/>
        </p:nvPicPr>
        <p:blipFill>
          <a:blip r:embed="rId1"/>
          <a:stretch/>
        </p:blipFill>
        <p:spPr>
          <a:xfrm>
            <a:off x="1476360" y="3411360"/>
            <a:ext cx="6480360" cy="319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стеопоро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Жене имају мање коштане масе у односу на мушкарц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 менопаузе, жене иницијално знатно брже губе коштану масу него мушкарци истог животног доб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следично, оне су подложније развоју остеопороз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Vladimir Zivkovic</cp:lastModifiedBy>
  <dcterms:modified xsi:type="dcterms:W3CDTF">2016-05-16T07:54:30Z</dcterms:modified>
  <cp:revision>200</cp:revision>
  <dc:subject/>
  <dc:title>ИНТЕГРИСАНЕ АКАДЕМСКЕ СТУДИЈЕ ФАРМАЦИЈЕ  Г04 – Медицинска хемија и дизајн лекова 2</dc:title>
</cp:coreProperties>
</file>