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2C23-CD6B-4C66-AD76-CA6F5CCE2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067D-C2F1-4C8F-B2F1-B632C9AF5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18B6-05E0-4659-A8A0-6F21C7910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2396-EA20-4512-A736-7761C514C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2DED-038E-44BD-B943-3F0D69E33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F457-17A8-407F-B8F3-D50861275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C20C-F801-4770-9A5D-099AD2439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747-F859-4159-AB09-FCED0600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337F5-8AFC-4D9B-8F98-0426A4D8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B7F2-E6C7-49EC-8660-D816C2C1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BF361-362C-46E7-B9FA-64FE891C6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671C-43B5-4E23-8EA5-A81C070F3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45158-28FA-4F24-BA18-8185EDDE2064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5"/>
          <p:cNvSpPr/>
          <p:nvPr/>
        </p:nvSpPr>
        <p:spPr>
          <a:xfrm>
            <a:off x="2703600" y="1486080"/>
            <a:ext cx="58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Calibri"/>
                <a:ea typeface="Arial"/>
              </a:rPr>
              <a:t>Интергисане академске студије фарма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3694320" y="1917720"/>
            <a:ext cx="21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Г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3087720" y="2422440"/>
            <a:ext cx="329724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3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модул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14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. наставна једи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Rectangle 8" descr=""/>
          <p:cNvPicPr/>
          <p:nvPr/>
        </p:nvPicPr>
        <p:blipFill>
          <a:blip r:embed="rId2"/>
          <a:stretch/>
        </p:blipFill>
        <p:spPr>
          <a:xfrm>
            <a:off x="828720" y="3144960"/>
            <a:ext cx="7815240" cy="1755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"/>
          <p:cNvSpPr/>
          <p:nvPr/>
        </p:nvSpPr>
        <p:spPr>
          <a:xfrm>
            <a:off x="5208840" y="6095880"/>
            <a:ext cx="346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Calibri"/>
                <a:ea typeface="Arial"/>
              </a:rPr>
              <a:t>доц. др. Јована Јоксимовић Јов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" descr=""/>
          <p:cNvPicPr/>
          <p:nvPr/>
        </p:nvPicPr>
        <p:blipFill>
          <a:blip r:embed="rId3"/>
          <a:stretch/>
        </p:blipFill>
        <p:spPr>
          <a:xfrm>
            <a:off x="4211640" y="1100160"/>
            <a:ext cx="1297080" cy="4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3"/>
          <p:cNvSpPr/>
          <p:nvPr/>
        </p:nvSpPr>
        <p:spPr>
          <a:xfrm>
            <a:off x="2418480" y="2852640"/>
            <a:ext cx="444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ВИТАМИН D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ХИДРОКСИХОЛЕКАЛЦИФЕРОЛ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3"/>
          <p:cNvSpPr/>
          <p:nvPr/>
        </p:nvSpPr>
        <p:spPr>
          <a:xfrm>
            <a:off x="2489040" y="1268280"/>
            <a:ext cx="423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МЕТАБОЛИЗАМ ВИТАМИНА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24000" y="1916280"/>
            <a:ext cx="85690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D3 - холекалциферол, настаје у кожи од 7-дехидрохолестерола под утицајем сунчевог зрач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D3 се транспортуј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е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везан за специфични глобулин– витамин D-везујући протеин (енгл. vitamin D – binding protein – DB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 метаболише дејством ензима који припадају суперфамилији цитохрома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450 (CY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 јетри се витамин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3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нвертује у 25-хидроксихолекалциферол (калцидиол, 25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HD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5-хидроскихолекалциферол се у ћелијама проксималних тубула конвертује у много активнији метаболит 1,25-дихидроксихолекалциферол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лцитрио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(1,25-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H)2D3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 концентрација калцитриола  је око 0,0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Витамин D3 се уноси у организам и исхрано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3"/>
          <p:cNvSpPr/>
          <p:nvPr/>
        </p:nvSpPr>
        <p:spPr>
          <a:xfrm>
            <a:off x="1791720" y="1125360"/>
            <a:ext cx="57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Стварање и хидроксилација витамина 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C:\Users\Vladimir Zivkovic\Desktop\GANONG\SLIKE\XXI POGLAVLjE\PNG\Gan024_Deo_21-02.png"/>
          <p:cNvPicPr/>
          <p:nvPr/>
        </p:nvPicPr>
        <p:blipFill>
          <a:blip r:embed="rId2"/>
          <a:stretch/>
        </p:blipFill>
        <p:spPr>
          <a:xfrm>
            <a:off x="1116000" y="1773360"/>
            <a:ext cx="6551640" cy="39607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5"/>
          <p:cNvSpPr/>
          <p:nvPr/>
        </p:nvSpPr>
        <p:spPr>
          <a:xfrm>
            <a:off x="1042920" y="5732640"/>
            <a:ext cx="6985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25-хидроксилација се одиграва у јетри, а остале хидроксилације се првенствено одвијају у бубрези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Структуре 7-дехидрохолестерола, витамина D3, као и 1,25-дихидроксихолекалциферола су приказане на сли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910440" y="1484280"/>
            <a:ext cx="739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Физиолошке улоге и механизам дејства калцитрио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324000" y="220500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већање апсорпције калијума (и фосфата) из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1,25-дихидроксихолекалциферол стимулише експресију великог броја генских продуката који су укључени у транспорт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 његово преузимање преко специфичних реце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калбиндини 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б) 1,25-дихидроксихолекалциферол повећава број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АТP-азе и TRVP6 у интестиналним епителним ћелијама  повећава капацитет за апсорпцију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з хран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Убрзање реапсорпције Ca</a:t>
            </a:r>
            <a:r>
              <a:rPr b="0" lang="en-US" sz="1600" spc="-1" strike="noStrike" u="sng" baseline="30000">
                <a:solidFill>
                  <a:srgbClr val="000000"/>
                </a:solidFill>
                <a:uFillTx/>
                <a:latin typeface="Calibri"/>
                <a:ea typeface="Arial"/>
              </a:rPr>
              <a:t>2+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 из бубрег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повећање експресије TRVP5 у прокисмалним тубулима бубр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.    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Повећаве апсорпцију калцијума у кости (снижава хиперкалцијемиј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повећање остеокластне актив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ИНТЕЗЕ ВИТАМИНА D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5"/>
          <p:cNvSpPr/>
          <p:nvPr/>
        </p:nvSpPr>
        <p:spPr>
          <a:xfrm>
            <a:off x="324000" y="2205000"/>
            <a:ext cx="85690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синтеза калцитриола у бубрезима (катализује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а) под контролом је повратне спреге у зависности од концентрације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 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у пла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к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да је ниво Ca2+ у плазми висок, продукује се мало калцитриола (омогућава адаптацију апсорпције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из цре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стимулише експресију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е секреција се повећава када је ниво 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плазми низа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Стварање калцитриола је повећано смањењем концентрације 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у плазм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ефектом 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на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у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додатна контрола стварања калцитриола се остварује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а) механизмом негативне повратне спреге овог метаболита на 1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хидроксила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б) директним инхибиторним ефектом на паратиреоидну жлезду (продукује мање P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3"/>
          <p:cNvSpPr/>
          <p:nvPr/>
        </p:nvSpPr>
        <p:spPr>
          <a:xfrm>
            <a:off x="2214360" y="2852640"/>
            <a:ext cx="485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200" spc="-1" strike="noStrike">
                <a:solidFill>
                  <a:srgbClr val="4d33ff"/>
                </a:solidFill>
                <a:latin typeface="Calibri"/>
                <a:ea typeface="Arial"/>
              </a:rPr>
              <a:t>ПАРАТИРЕОИДНЕ ЖЛЕЗД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3"/>
          <p:cNvSpPr/>
          <p:nvPr/>
        </p:nvSpPr>
        <p:spPr>
          <a:xfrm>
            <a:off x="1979640" y="119700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ФУНКЦИОНАЛНА АНАТОМИЈ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" descr="C:\Users\Vladimir Zivkovic\Desktop\GANONG\SLIKE\XXI POGLAVLjE\PNG\Gan024_Deo_21-04.png"/>
          <p:cNvPicPr/>
          <p:nvPr/>
        </p:nvPicPr>
        <p:blipFill>
          <a:blip r:embed="rId2"/>
          <a:stretch/>
        </p:blipFill>
        <p:spPr>
          <a:xfrm>
            <a:off x="539640" y="1989000"/>
            <a:ext cx="3816360" cy="3745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3" descr="C:\Users\Vladimir Zivkovic\Desktop\GANONG\SLIKE\XXI POGLAVLjE\PNG\Gan024_Deo_21-05.png"/>
          <p:cNvPicPr/>
          <p:nvPr/>
        </p:nvPicPr>
        <p:blipFill>
          <a:blip r:embed="rId3"/>
          <a:stretch/>
        </p:blipFill>
        <p:spPr>
          <a:xfrm>
            <a:off x="4500720" y="3213000"/>
            <a:ext cx="3681360" cy="2424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4427640" y="5589720"/>
            <a:ext cx="5526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Пресек паратиреоидне жлезде чове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Мале ћелије су главне ћелиј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Велике тачкасте ћелије су оксифилне ћелиј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400" spc="-1" strike="noStrike">
                <a:solidFill>
                  <a:srgbClr val="000000"/>
                </a:solidFill>
                <a:latin typeface="Calibri"/>
                <a:ea typeface="Arial"/>
              </a:rPr>
              <a:t>(посебно оне у доњем левом делу слике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324000" y="580536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аратиреоидне жлезде код људ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посматрано са задње стран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СИНТЕЗА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"/>
          <p:cNvSpPr/>
          <p:nvPr/>
        </p:nvSpPr>
        <p:spPr>
          <a:xfrm>
            <a:off x="324000" y="2205000"/>
            <a:ext cx="856908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је линеарни полипептид (84 аминокиселинска остатк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Синтетише се из већег молекула који садржи 115 аминокиселинских остатака (пре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При уласку пре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у ендоплазматски ретикулум ствара се 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(90 аминокисел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У Голџијевом апарату шест аминокиселина се уклања из про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са амино - настај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(84 аминокиселин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4.     РТН се пакује у секреторне грануле и ослобађа као главни секреторни продукт главних ћелиј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МЕТАБОЛИЗАМ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324000" y="2492280"/>
            <a:ext cx="8820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е вредност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 су 10–55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g/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Полуживот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око 10 мину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РТН се рапидно цепа у Купферовим ћелијама јетре у фрагменте који су биолошки неактивн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Затим с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и настали фрагменти одстрањују путем бубре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ФИЗИОЛОШКА ДЕЈСТВА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24000" y="2708280"/>
            <a:ext cx="8569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 мобилиза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sr-R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з коштаног матрикс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i="1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(или обрнуто у зависности од потреб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2.   повећање реапсорпције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у дисталним тубулим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3.   повећање продукције калцитриола (повећана апсорпција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из црев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4.   повећање екскреције фосфата урин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1" descr=""/>
          <p:cNvPicPr/>
          <p:nvPr/>
        </p:nvPicPr>
        <p:blipFill>
          <a:blip r:embed="rId1"/>
          <a:stretch/>
        </p:blipFill>
        <p:spPr>
          <a:xfrm>
            <a:off x="480960" y="2779560"/>
            <a:ext cx="8480520" cy="7066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3"/>
          <p:cNvSpPr/>
          <p:nvPr/>
        </p:nvSpPr>
        <p:spPr>
          <a:xfrm>
            <a:off x="1692360" y="1484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324000" y="2205000"/>
            <a:ext cx="8569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Calibri"/>
                <a:ea typeface="Arial"/>
              </a:rPr>
              <a:t>1.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з циркулације - негативна повратна спрега секрециј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-активација мембранског рецептора з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- CaR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-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хибише лучење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да је нив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 висок, секрециј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је инхибисан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е одлаже у кости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-када је ниво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 низак, секрециј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TH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се повећава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е мобилише из костиј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Калцитриол смањује лучење РТ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ћана концентрација фосфата у плазми стимулише секрецију P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За одржавање нормалног секреторног одговора паратиреоидних жлезда, неопходан фактор је магнез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Уколико постоји дефицијенција магнезијума, ослобађа се мање 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PTH 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и смањује се одговор ткива на </a:t>
            </a:r>
            <a:r>
              <a:rPr b="0" i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P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-Опште одлик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395280" y="2060640"/>
            <a:ext cx="8569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снижава концентрацију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дукују га парафоликуларне ћелије тиреоидне жлез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(чисте ил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у калцитонина стимулишу β-адренергички агонисти, допамин, естрогени, гастрин, холецистокинин, глукагон и секре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јство калцитонина је кракотрајно (полуживот мањи од 10 минут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ТО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-Физиолошке улог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395280" y="220500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алцитонин изазива смањење концентрације калцијума у циркулац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хибиција реапсорп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 кост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ћање екскреције Ca</a:t>
            </a:r>
            <a:r>
              <a:rPr b="0" lang="ru-RU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урин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же штитити кости мајке од губитка калцијума током трудноћ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оже имати улогу у развоју скел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ису описани симптоми карактеристични за недостатак калцито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ма веома слаб дугорочни ефекат на одржавање ниво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ма утицај на хомеостазу фосфата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Rectangle 1" descr=""/>
          <p:cNvPicPr/>
          <p:nvPr/>
        </p:nvPicPr>
        <p:blipFill>
          <a:blip r:embed="rId1"/>
          <a:stretch/>
        </p:blipFill>
        <p:spPr>
          <a:xfrm>
            <a:off x="2273400" y="2779560"/>
            <a:ext cx="4889520" cy="7066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7" descr="E:\DOKUMENTI\Nimda dokumenti\memo grb.png"/>
          <p:cNvPicPr/>
          <p:nvPr/>
        </p:nvPicPr>
        <p:blipFill>
          <a:blip r:embed="rId2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"/>
          <p:cNvSpPr/>
          <p:nvPr/>
        </p:nvSpPr>
        <p:spPr>
          <a:xfrm>
            <a:off x="900000" y="1197000"/>
            <a:ext cx="66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Опште одлике Лангерхансовог острв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5"/>
          <p:cNvSpPr/>
          <p:nvPr/>
        </p:nvSpPr>
        <p:spPr>
          <a:xfrm>
            <a:off x="395280" y="2205000"/>
            <a:ext cx="8569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валне ћелијске формације (76 x 175 μ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разбацана по панкреасу (много више има у репу него у телу и глав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од човека постоји 1–2 милиона острва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огато снабдевена крвљ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рв из се дренира у портну ве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C:\Users\Vladimir Zivkovic\Desktop\GANONG\SLIKE\XXIV POGLAVLjE\PNG\Gan024_Slika_24-01.png"/>
          <p:cNvPicPr/>
          <p:nvPr/>
        </p:nvPicPr>
        <p:blipFill>
          <a:blip r:embed="rId2"/>
          <a:stretch/>
        </p:blipFill>
        <p:spPr>
          <a:xfrm>
            <a:off x="4643280" y="3573360"/>
            <a:ext cx="3160800" cy="241308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5"/>
          <p:cNvSpPr/>
          <p:nvPr/>
        </p:nvSpPr>
        <p:spPr>
          <a:xfrm>
            <a:off x="4572000" y="6093000"/>
            <a:ext cx="4572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Лангерхансово острвце у панкреасу па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амно су обојене β-ћел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3"/>
          <p:cNvSpPr/>
          <p:nvPr/>
        </p:nvSpPr>
        <p:spPr>
          <a:xfrm>
            <a:off x="1979640" y="119700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Типови ћелија и њихов знача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5"/>
          <p:cNvSpPr/>
          <p:nvPr/>
        </p:nvSpPr>
        <p:spPr>
          <a:xfrm>
            <a:off x="395280" y="2205000"/>
            <a:ext cx="856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Четири различита типа ћелија: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α, β, 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α, β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 се зову и А,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B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D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α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глук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β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δ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соматост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F-</a:t>
            </a:r>
            <a:r>
              <a:rPr b="1" lang="ru-RU" sz="18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ћелије луче панкреасни полипепти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 су заступљене у највећем броју (60–75%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лазе се у центру сваког острв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оне су у највећем броју окружене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α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ама (око 20% ), док се у мањем проценту око њих налазе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F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3"/>
          <p:cNvSpPr/>
          <p:nvPr/>
        </p:nvSpPr>
        <p:spPr>
          <a:xfrm>
            <a:off x="1835280" y="2708280"/>
            <a:ext cx="58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СТРУКТУРА, БИ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И СЕКРЕЦИЈА ИНСУЛ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- Биосинтеза и секрециј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95280" y="2205000"/>
            <a:ext cx="8569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 је полипептид који се састоји од два ланца аминокиселина повезана дисулфидним мостов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интеза у гранулисаном ендоплазматском ретикулуму β-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транспорт у Голџијев апарат (паковање у грануле које су везане за мембран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везивање гранула за плазма мембрану преко микротубу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злучивање садржаја процесом егзоцито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лазак кроз базалну ламину β-ћелија и суседних капила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лазак у кровот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C:\Users\Vladimir Zivkovic\Desktop\GANONG\SLIKE\XXIV POGLAVLjE\PNG\Gan024_Slika_24-03.png"/>
          <p:cNvPicPr/>
          <p:nvPr/>
        </p:nvPicPr>
        <p:blipFill>
          <a:blip r:embed="rId2"/>
          <a:stretch/>
        </p:blipFill>
        <p:spPr>
          <a:xfrm>
            <a:off x="5867280" y="3860640"/>
            <a:ext cx="2995560" cy="27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ИНСУЛ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- Биосинтеза и секреција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5"/>
          <p:cNvSpPr/>
          <p:nvPr/>
        </p:nvSpPr>
        <p:spPr>
          <a:xfrm>
            <a:off x="395280" y="2205000"/>
            <a:ext cx="85694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 се синтетише као део великог препрохорм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епроинсулин настаје у ендоплазматском ретикулу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о молекула се уклања, а дисулфидни мостови се постављају тако да чине про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птидни сегмент који повезује А и B-ланац - 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зујући </a:t>
            </a:r>
            <a:r>
              <a:rPr b="1" i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-</a:t>
            </a:r>
            <a:r>
              <a:rPr b="1" i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пти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(енгл.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onnecting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peptide – C-peptid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Повезујући С пептид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брзава одвајање ланаца  и одваја се у гранулама непосредно пре секре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а инсулина праћена секрецијом еквимоларних количин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C-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епти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  <a:ea typeface="Arial"/>
              </a:rPr>
              <a:t>C-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пептид се може детектовати радиоимуноесејом, тако да његов ниво у крви представља индекс функције </a:t>
            </a:r>
            <a:r>
              <a:rPr b="0" lang="el-GR" sz="1800" spc="-1" strike="noStrike">
                <a:solidFill>
                  <a:srgbClr val="ff000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ff0000"/>
                </a:solidFill>
                <a:latin typeface="Calibri"/>
                <a:ea typeface="Arial"/>
              </a:rPr>
              <a:t>ћелија код пацијената који примају егзогени 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ДЕЈСТВА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395280" y="2205000"/>
            <a:ext cx="85694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олуживот инсулина у хуманој плазми је око пет мину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 се везује за инсулински рецептор, а остатак се интернализу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ејства инсулина се конвенционално деле на брза, интермедијерна и одлож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ајпознатији је хипогликемијски ефекат, али веома су значајни и ефекти на транспорт електролита, на многе ензиме и на ра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Нето ефекат овог хормона је депоновање глукозе, масти и протеина („хормон изобиљ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”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301920" y="1268280"/>
            <a:ext cx="23292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опште одли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468360" y="2276640"/>
            <a:ext cx="8424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рганизам садржи око 1.100 g (27,5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mol) калцију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99% калцијума се налази у скеле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изиолошка концентрација калцијума у плазми износи 2,5 m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езан за протеине и слободни јонизовани облик (еквивалентно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"/>
          <p:cNvPicPr/>
          <p:nvPr/>
        </p:nvPicPr>
        <p:blipFill>
          <a:blip r:embed="rId2"/>
          <a:srcRect l="0" t="17501" r="0" b="0"/>
          <a:stretch/>
        </p:blipFill>
        <p:spPr>
          <a:xfrm>
            <a:off x="2268360" y="3716280"/>
            <a:ext cx="4537080" cy="237672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2340000" y="6021360"/>
            <a:ext cx="53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Дистрибуција калцијума у плазми човека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 (mg/d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ПРИМАРНА ДЕЈСТВА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5977080" cy="392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3"/>
          <p:cNvSpPr/>
          <p:nvPr/>
        </p:nvSpPr>
        <p:spPr>
          <a:xfrm>
            <a:off x="1403280" y="549360"/>
            <a:ext cx="646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ДЕЈСТВА ИНСУЛИНА НА РАЗЛИЧИТЕ ОРГА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rcRect l="0" t="67103" r="0" b="0"/>
          <a:stretch/>
        </p:blipFill>
        <p:spPr>
          <a:xfrm>
            <a:off x="2411280" y="3933720"/>
            <a:ext cx="4392720" cy="27799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2"/>
          <a:srcRect l="0" t="30068" r="19678" b="33031"/>
          <a:stretch/>
        </p:blipFill>
        <p:spPr>
          <a:xfrm>
            <a:off x="4572000" y="1268280"/>
            <a:ext cx="3672000" cy="26654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"/>
          <p:cNvPicPr/>
          <p:nvPr/>
        </p:nvPicPr>
        <p:blipFill>
          <a:blip r:embed="rId3"/>
          <a:srcRect l="0" t="0" r="34433" b="68914"/>
          <a:stretch/>
        </p:blipFill>
        <p:spPr>
          <a:xfrm>
            <a:off x="539640" y="1268280"/>
            <a:ext cx="374508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ТРАНСПОРТЕРИ ЗА ГЛ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395280" y="2205000"/>
            <a:ext cx="856944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укоза улази у ћелију процесом олакшане дифузије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LUT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транспортери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или секундарним активним транспортом са јонима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sr-RS" sz="18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 (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бубрези и црев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мишићима и масном ткиву, инсулин стимулише улазак глукозе у ћелију повећањем броја транспортера за глукозу (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LUT)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у ћелијској мембр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До сада је идентификовано седам различитих GLUT названих GLUT 1–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 </a:t>
            </a:r>
            <a:r>
              <a:rPr b="0" i="1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е разликују од натријум-зависних глукозних транспортера који омогућавају секундарни активни транспорт глукозе у цревима и бубрежним тубулима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3"/>
          <p:cNvSpPr/>
          <p:nvPr/>
        </p:nvSpPr>
        <p:spPr>
          <a:xfrm>
            <a:off x="1979640" y="1197000"/>
            <a:ext cx="559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ТРАНСПОРТЕРИ ЗА ГЛУКОЗ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2" descr=""/>
          <p:cNvPicPr/>
          <p:nvPr/>
        </p:nvPicPr>
        <p:blipFill>
          <a:blip r:embed="rId2"/>
          <a:stretch/>
        </p:blipFill>
        <p:spPr>
          <a:xfrm>
            <a:off x="539640" y="1989000"/>
            <a:ext cx="7896240" cy="42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3"/>
          <p:cNvSpPr/>
          <p:nvPr/>
        </p:nvSpPr>
        <p:spPr>
          <a:xfrm>
            <a:off x="1187280" y="1197000"/>
            <a:ext cx="638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ИНСУЛИН-СЕНЗИТИВНИ ТРАНСПОРТЕР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GLUT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250920" y="1628640"/>
            <a:ext cx="8713800" cy="32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 4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је транспортер у мишићима и масном ткиву, који је осетљив на инсулин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Депо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 4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молекула се налази у везикулама у цитоплазми инсулин-сензитивних ћелија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Када се на тим ћелијама активирају рецептори за инсулин, везикуле брзо долазе до ћелијске мембране, фузионишу се са њом и убацују транспортере у мембрану (под дејством фосфатидилинозитол 3-киназе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Када дејство инсулина престане, делови мембране који садрже транспортере се увлаче ендоцитозом у ћелију и образују везикуле које су спремне за следеће излагање инсулину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Већина других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Arial"/>
              </a:rPr>
              <a:t>GLUT, </a:t>
            </a: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који нису сензитивни на инсулин, конститутивни су протеини ћелијске мембран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C:\Users\Vladimir Zivkovic\Desktop\GANONG\SLIKE\XXIV POGLAVLjE\PNG\Gan024_Slika_24-04.png"/>
          <p:cNvPicPr/>
          <p:nvPr/>
        </p:nvPicPr>
        <p:blipFill>
          <a:blip r:embed="rId2"/>
          <a:stretch/>
        </p:blipFill>
        <p:spPr>
          <a:xfrm>
            <a:off x="3708360" y="4270320"/>
            <a:ext cx="522468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3"/>
          <p:cNvSpPr/>
          <p:nvPr/>
        </p:nvSpPr>
        <p:spPr>
          <a:xfrm>
            <a:off x="1979640" y="476280"/>
            <a:ext cx="55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d33ff"/>
                </a:solidFill>
                <a:latin typeface="Calibri"/>
                <a:ea typeface="Arial"/>
              </a:rPr>
              <a:t>МЕХАНИЗАМ ДЕЈСТВА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1413000"/>
            <a:ext cx="53290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ецептори за инсулин се налазе свуда у телу (чак и у ћелијама у којима инсулин не повећава улазак глукоз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нсулински рецептор се састоји од две α и две β-гликопротеинске субјединиц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На свом интрацелуларном крају β-субјединица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испољава тирозин киназну активнос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езивање инсулина за рецептор активира тирозин киназну активност β-субјединице, и изазива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аутофосфорилацију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субјединица на тирозинским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остац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утофосфорилација, која је неопходна за остваривање биолошких дејстава инсулина, изазива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фосфорилацију појединих интрацелуларних протеина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дефосфорилацију других, већином на серинским 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и треонинским остац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3" descr="C:\Users\Vladimir Zivkovic\Desktop\GANONG\SLIKE\XXIV POGLAVLjE\PNG\Gan024_Slika_24-06.png"/>
          <p:cNvPicPr/>
          <p:nvPr/>
        </p:nvPicPr>
        <p:blipFill>
          <a:blip r:embed="rId1"/>
          <a:stretch/>
        </p:blipFill>
        <p:spPr>
          <a:xfrm>
            <a:off x="5508720" y="1844640"/>
            <a:ext cx="3456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24000" y="1916280"/>
            <a:ext cx="8569080" cy="39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глукоза је једини извор енергије за мозак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Све познате последице повећаног лучења инсулина су директне или индиректне манифестације последица хипогликемије на ЦНС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1.    Када дође до благог пада концентрације глукозе у плазми, први симптоми су палпитације, знојење и нервоза услед аутономне дисфункције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2.    Уколико је концентрација глукозе у плазми нижа, почињу да се јављају тзв. неурогликопенијски симптоми (глад, конфузија и други когнитивни поремећаји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3.    Уколико концентрација глукозе и даље опада, развијају се летаргија, кома, конвулзије и смртни исход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*     </a:t>
            </a:r>
            <a:r>
              <a:rPr b="0" lang="ru-RU" sz="1700" spc="-1" strike="noStrike">
                <a:solidFill>
                  <a:srgbClr val="ff0000"/>
                </a:solidFill>
                <a:latin typeface="Calibri"/>
                <a:ea typeface="Arial"/>
              </a:rPr>
              <a:t>Брз равој хипогликемијских симптома обавезно захтева ургентан третман глукозом или напицима који садрже глукозу, као што су воћни сокови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2633400" y="126828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ПОВЕЋАНО ЛУЧЕЊ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395280" y="2492280"/>
            <a:ext cx="85694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ТИ КОНЦЕНТРАЦИЈЕ ГЛУКОЗЕ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ЕРИВАТИ ПРОТЕИНА И М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ЦИКЛИЧНИ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ОРАЛНИ ХИПОГЛИКЕМИЈСКИ АГЕНС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ЕФЕКТИ АУТОНОМНОГ НЕРВНОГ СИСТЕ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ИНТЕСТИНАЛНИ ХОРМО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ДУГОТРАЈНЕ ПРОМЕНЕ У СЕКРЕТОРНОМ ОДГОВОРУ </a:t>
            </a:r>
            <a:r>
              <a:rPr b="0" lang="el-GR" sz="1800" spc="-1" strike="noStrike">
                <a:solidFill>
                  <a:srgbClr val="000000"/>
                </a:solidFill>
                <a:latin typeface="Calibri"/>
                <a:ea typeface="Arial"/>
              </a:rPr>
              <a:t>β-</a:t>
            </a:r>
            <a:r>
              <a:rPr b="0" lang="sr-RS" sz="1800" spc="-1" strike="noStrike">
                <a:solidFill>
                  <a:srgbClr val="000000"/>
                </a:solidFill>
                <a:latin typeface="Calibri"/>
                <a:ea typeface="Arial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2195640" y="134136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5"/>
          <p:cNvSpPr/>
          <p:nvPr/>
        </p:nvSpPr>
        <p:spPr>
          <a:xfrm>
            <a:off x="395280" y="1268280"/>
            <a:ext cx="856944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Calibri"/>
                <a:ea typeface="Arial"/>
              </a:rPr>
              <a:t>Нормална концентрација инсулина у плазми наташте се креће од 0 до 70 μU/m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1979640" y="47628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2195640" y="1700280"/>
            <a:ext cx="56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Фактори који утичу на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1"/>
          <a:stretch/>
        </p:blipFill>
        <p:spPr>
          <a:xfrm>
            <a:off x="2268360" y="2060640"/>
            <a:ext cx="4248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4"/>
          <p:cNvSpPr/>
          <p:nvPr/>
        </p:nvSpPr>
        <p:spPr>
          <a:xfrm>
            <a:off x="2195640" y="1341360"/>
            <a:ext cx="518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ЕФЕКТИ КОНЦЕНТРАЦИЈЕ ГЛУКОЗЕ У ПЛАЗ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69" name="Rectangle 5"/>
          <p:cNvSpPr/>
          <p:nvPr/>
        </p:nvSpPr>
        <p:spPr>
          <a:xfrm>
            <a:off x="395280" y="2349360"/>
            <a:ext cx="7993080" cy="28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глукозе у β-ћелију путем GLUT 2 транспорт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Фосфорилација глукозе посредством глукокиназ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метаболисање глукозе до пирувата у цито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пирувата у митохондрије и метаболисање до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O</a:t>
            </a:r>
            <a:r>
              <a:rPr b="0" lang="en-US" sz="1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и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H</a:t>
            </a:r>
            <a:r>
              <a:rPr b="0" lang="en-US" sz="1800" spc="-1" strike="noStrike" baseline="-25000">
                <a:solidFill>
                  <a:srgbClr val="7030a0"/>
                </a:solidFill>
                <a:latin typeface="Calibri"/>
                <a:ea typeface="Arial"/>
              </a:rPr>
              <a:t>2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стварање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 процесу оксидативне фосфорил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АТР у цитоплазму и инхибиција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зависних калијумових 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смањење излазка калијума из 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деполаризације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ћел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лазак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у ћелију путем волтаж-зависних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егзоцитоза секреторних гранула које садрже инсул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284280" y="1268280"/>
            <a:ext cx="2527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Физиолошки значај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468360" y="2276640"/>
            <a:ext cx="842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градња коштаног матрикс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лободни (јонизовани) калцијум у телесним течностима - секундарни гласни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коагулација крви, контракција мишића, функционисање нерав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3.    Ексцитаторна активност нерава и мишић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in v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* хипокалцијемијска тетанија (екстензивни спазам скелетних мишића, који је нарочито изражен на екстремитетима и ларинксу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  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* ларингоспазам може бити до те мере изражен да узрокује опструкцију дисајних пут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која може проузроковати фаталну асфикс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4"/>
          <p:cNvSpPr/>
          <p:nvPr/>
        </p:nvSpPr>
        <p:spPr>
          <a:xfrm>
            <a:off x="2195640" y="1341360"/>
            <a:ext cx="518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ЕФЕКТИ КОНЦЕНТРАЦИЈЕ ГЛУКОЗЕ У ПЛАЗМ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2" descr="C:\Users\Vladimir Zivkovic\Desktop\GANONG\SLIKE\XXIV POGLAVLjE\PNG\Gan024_Slika_24-11.png"/>
          <p:cNvPicPr/>
          <p:nvPr/>
        </p:nvPicPr>
        <p:blipFill>
          <a:blip r:embed="rId2"/>
          <a:stretch/>
        </p:blipFill>
        <p:spPr>
          <a:xfrm>
            <a:off x="2916360" y="2205000"/>
            <a:ext cx="3611520" cy="367200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6"/>
          <p:cNvSpPr/>
          <p:nvPr/>
        </p:nvSpPr>
        <p:spPr>
          <a:xfrm>
            <a:off x="3421800" y="6021360"/>
            <a:ext cx="21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ХЕМАТСКИ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4"/>
          <p:cNvSpPr/>
          <p:nvPr/>
        </p:nvSpPr>
        <p:spPr>
          <a:xfrm>
            <a:off x="2195640" y="1341360"/>
            <a:ext cx="518472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ЕФЕКТИ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ЕРИВАТА ПРОТЕИНА И МАСТИ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6" name="Rectangle 5"/>
          <p:cNvSpPr/>
          <p:nvPr/>
        </p:nvSpPr>
        <p:spPr>
          <a:xfrm>
            <a:off x="324000" y="2637000"/>
            <a:ext cx="82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нсулин стимулише уграђивање аминокиселина у протеине и спречава катаболизам масти до β-кетокисе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ргинин, леуцин и неке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кетокиселине (ацетоацетат) стимулишу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ви молекули ствара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,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чиме се затвара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зависни калијумови канал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L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ргинин је прекурсор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NO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који стимулише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"/>
          <p:cNvSpPr/>
          <p:nvPr/>
        </p:nvSpPr>
        <p:spPr>
          <a:xfrm>
            <a:off x="2124000" y="1341360"/>
            <a:ext cx="55436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ЕФЕКТИ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ОРАЛНИХ ХИПОГЛИКЕМИЈСКИХ АГЕНАСА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5"/>
          <p:cNvSpPr/>
          <p:nvPr/>
        </p:nvSpPr>
        <p:spPr>
          <a:xfrm>
            <a:off x="539640" y="2349360"/>
            <a:ext cx="7993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рални хипогликемијски агенси који снижавају концентрацију глукозе у крви повећавањем секреције инсули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толбутамид и деривати сулфонилурее (ацетохексамид, толазамид, глипезид и глибур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делотворни само код пацијената који имају одређени пул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ћел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потпуно неефикасни код панкреатектомија или у дијабетесу тип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Механизам регула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1. инхибиција активности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ATP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зависних калијумових кан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2. деполаризација ћелијске мембра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3. повећање уласка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 ћел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4. ослобађање инсулина независно од концентрације глукозе у плаз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4"/>
          <p:cNvSpPr/>
          <p:nvPr/>
        </p:nvSpPr>
        <p:spPr>
          <a:xfrm>
            <a:off x="2124000" y="1341360"/>
            <a:ext cx="540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ЕФЕКТИ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ЦИКЛИЧНОГ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</a:rPr>
              <a:t>AMP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-а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5"/>
          <p:cNvSpPr/>
          <p:nvPr/>
        </p:nvSpPr>
        <p:spPr>
          <a:xfrm>
            <a:off x="539640" y="234936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тимулуси који повећавају концентраци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MP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ћелијам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β-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 агонисти, глукагон, инхибитори фосфодиестеразе (теофилин) повећавају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Катехоламини имају двоструко дејство на секрецију инсул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) инхибишу његову секрецију преко α2-адренергичких рецепт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б) преко β-адренергичких рецептора стимулишу његову секреци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124000" y="13413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 ЕФЕКТИ АУТОНОМНОГ НЕРВНОГ СИСТЕМА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5"/>
          <p:cNvSpPr/>
          <p:nvPr/>
        </p:nvSpPr>
        <p:spPr>
          <a:xfrm>
            <a:off x="539640" y="2349360"/>
            <a:ext cx="799308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1. Парасимпатик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ране десног вагусног нерва инервишу панкреасна острвца и повећавају секрецију инсулина (М4 рецептори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ацетилхолин стимулише секрецију инсул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повећава концентраци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у цитоплазми (путем фосфолипазе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)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повећава концентрацију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I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ослобађа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a</a:t>
            </a:r>
            <a:r>
              <a:rPr b="0" lang="en-US" sz="1800" spc="-1" strike="noStrike" baseline="30000">
                <a:solidFill>
                  <a:srgbClr val="7030a0"/>
                </a:solidFill>
                <a:latin typeface="Calibri"/>
                <a:ea typeface="Arial"/>
              </a:rPr>
              <a:t>2+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з ендоплазматског ретикулу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2. Симпатику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норадреналин преко </a:t>
            </a:r>
            <a:r>
              <a:rPr b="0" lang="el-GR" sz="1800" spc="-1" strike="noStrike">
                <a:solidFill>
                  <a:srgbClr val="7030a0"/>
                </a:solidFill>
                <a:latin typeface="Calibri"/>
                <a:ea typeface="Arial"/>
              </a:rPr>
              <a:t>α2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х рецептора инхибише секрецију инсул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RS" sz="1600" spc="-1" strike="noStrike">
                <a:solidFill>
                  <a:srgbClr val="7030a0"/>
                </a:solidFill>
                <a:latin typeface="Calibri"/>
                <a:ea typeface="Arial"/>
              </a:rPr>
              <a:t>уколико су </a:t>
            </a:r>
            <a:r>
              <a:rPr b="0" i="1" lang="el-GR" sz="1600" spc="-1" strike="noStrike">
                <a:solidFill>
                  <a:srgbClr val="7030a0"/>
                </a:solidFill>
                <a:latin typeface="Calibri"/>
                <a:ea typeface="Arial"/>
              </a:rPr>
              <a:t>α-</a:t>
            </a:r>
            <a:r>
              <a:rPr b="0" i="1" lang="sr-RS" sz="16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 рецептори блокирани, симпатикус проузрокује повећање секреције инсулина преко </a:t>
            </a:r>
            <a:r>
              <a:rPr b="0" i="1" lang="el-GR" sz="1600" spc="-1" strike="noStrike">
                <a:solidFill>
                  <a:srgbClr val="7030a0"/>
                </a:solidFill>
                <a:latin typeface="Calibri"/>
                <a:ea typeface="Arial"/>
              </a:rPr>
              <a:t>β2-</a:t>
            </a:r>
            <a:r>
              <a:rPr b="0" i="1" lang="sr-RS" sz="1600" spc="-1" strike="noStrike">
                <a:solidFill>
                  <a:srgbClr val="7030a0"/>
                </a:solidFill>
                <a:latin typeface="Calibri"/>
                <a:ea typeface="Arial"/>
              </a:rPr>
              <a:t>адренергичких рецепт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4"/>
          <p:cNvSpPr/>
          <p:nvPr/>
        </p:nvSpPr>
        <p:spPr>
          <a:xfrm>
            <a:off x="1979640" y="40464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 ЕФЕКТИ ИНТЕСТИНАЛНИХ ХОРМОНА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5"/>
          <p:cNvSpPr/>
          <p:nvPr/>
        </p:nvSpPr>
        <p:spPr>
          <a:xfrm>
            <a:off x="468360" y="134136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упстанце које лучи мукоза гастроинтестиналног тракта стимулишу секрецију инсулин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лукаг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деривати глукаг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секре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холецистокинин (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CCK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аст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     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гастрични инхибиторни пептид (</a:t>
            </a:r>
            <a:r>
              <a:rPr b="0" lang="en-US" sz="1800" spc="-1" strike="noStrike">
                <a:solidFill>
                  <a:srgbClr val="7030a0"/>
                </a:solidFill>
                <a:latin typeface="Calibri"/>
                <a:ea typeface="Arial"/>
              </a:rPr>
              <a:t>GI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7030a0"/>
                </a:solidFill>
                <a:latin typeface="Calibri"/>
                <a:ea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6"/>
          <p:cNvSpPr/>
          <p:nvPr/>
        </p:nvSpPr>
        <p:spPr>
          <a:xfrm>
            <a:off x="468360" y="4005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                   </a:t>
            </a: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РЕГУЛАЦИЈА СЕКРЕЦИЈЕ ИНСУЛ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</a:rPr>
              <a:t>        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r>
              <a:rPr b="0" lang="sr-RS" sz="1800" spc="-1" strike="noStrike">
                <a:solidFill>
                  <a:srgbClr val="7030a0"/>
                </a:solidFill>
                <a:latin typeface="Calibri"/>
              </a:rPr>
              <a:t> ЕФЕКТИ 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</a:rPr>
              <a:t>ДУГОТРАЈНИХ ПРОМЕНА У СЕКРЕТОРНОМ ОДГОВОРУ β-ЋЕЛИЈА</a:t>
            </a:r>
            <a:r>
              <a:rPr b="0" lang="sr-RS" sz="2400" spc="-1" strike="noStrike">
                <a:solidFill>
                  <a:srgbClr val="7030a0"/>
                </a:solidFill>
                <a:latin typeface="Calibri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1042920" y="5013360"/>
            <a:ext cx="720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ако β-ћелије на стимулус одговарају хипертрофијом оне се временом исцрпљују и престају да луче хормо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(</a:t>
            </a:r>
            <a:r>
              <a:rPr b="1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исцрпљеност β-ћелије</a:t>
            </a: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1" name="Rectangle 3"/>
          <p:cNvSpPr/>
          <p:nvPr/>
        </p:nvSpPr>
        <p:spPr>
          <a:xfrm>
            <a:off x="1835280" y="2708280"/>
            <a:ext cx="5884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СТРУКТУРА, БИОСИНТЕ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d33ff"/>
                </a:solidFill>
                <a:latin typeface="Calibri"/>
                <a:ea typeface="Arial"/>
              </a:rPr>
              <a:t>И СЕКРЕЦИЈА ГЛУКАГ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4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Физиолошке уло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4" name="Rectangle 5"/>
          <p:cNvSpPr/>
          <p:nvPr/>
        </p:nvSpPr>
        <p:spPr>
          <a:xfrm>
            <a:off x="611280" y="1989000"/>
            <a:ext cx="7993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7030a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глукагон је линеарни полипептидни хормон (29 аминокисел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тују га α-ћелије панкреасних острваца и горњи делови гастроинтестиналног тра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етаболичка дејства глукогон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1. гликогенолитич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2. глуконеогенети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3. липолитичк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4. кетогено деј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Picture 3" descr="C:\Users\Vladimir Zivkovic\Desktop\GANONG\SLIKE\XXIV POGLAVLjE\PNG\Gan024_Slika_24-13.png"/>
          <p:cNvPicPr/>
          <p:nvPr/>
        </p:nvPicPr>
        <p:blipFill>
          <a:blip r:embed="rId2"/>
          <a:stretch/>
        </p:blipFill>
        <p:spPr>
          <a:xfrm>
            <a:off x="4572000" y="2781360"/>
            <a:ext cx="373680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4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(1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179280" y="2637000"/>
            <a:ext cx="7993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у глукагона стимули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ипоглик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НС (β-адренергичких рецептор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трес (инфекција, физичко оптерећење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протеини и аминокиселин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CCK и гастр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2" descr=""/>
          <p:cNvPicPr/>
          <p:nvPr/>
        </p:nvPicPr>
        <p:blipFill>
          <a:blip r:embed="rId2"/>
          <a:stretch/>
        </p:blipFill>
        <p:spPr>
          <a:xfrm>
            <a:off x="4932360" y="2205000"/>
            <a:ext cx="396072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4"/>
          <p:cNvSpPr/>
          <p:nvPr/>
        </p:nvSpPr>
        <p:spPr>
          <a:xfrm>
            <a:off x="611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4d33ff"/>
                </a:solidFill>
                <a:latin typeface="Calibri"/>
                <a:ea typeface="Arial"/>
              </a:rPr>
              <a:t>Регулација секреције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202" name="Rectangle 5"/>
          <p:cNvSpPr/>
          <p:nvPr/>
        </p:nvSpPr>
        <p:spPr>
          <a:xfrm>
            <a:off x="324000" y="2349360"/>
            <a:ext cx="7993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цију глукагона инхибишу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Хипергликем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G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екре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лободне масне кисел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кетонска те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соматостати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2"/>
          <a:stretch/>
        </p:blipFill>
        <p:spPr>
          <a:xfrm>
            <a:off x="4788000" y="2133720"/>
            <a:ext cx="39607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3"/>
          <p:cNvSpPr/>
          <p:nvPr/>
        </p:nvSpPr>
        <p:spPr>
          <a:xfrm>
            <a:off x="3464640" y="1268280"/>
            <a:ext cx="2260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5"/>
          <p:cNvSpPr/>
          <p:nvPr/>
        </p:nvSpPr>
        <p:spPr>
          <a:xfrm>
            <a:off x="468360" y="2276640"/>
            <a:ext cx="84247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 транспортује преко четкастог покрова епителних ћелија у цревима путем канала -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анилоидни транзиторни рецептори тип 6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(енгл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ransient receptor potential vanilloid type 6 – TRPV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2.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везује се за интрацелуларни протеин калбиндин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9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3. к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лбиндин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9k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квестрира апсорбовани калцијум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4. апсорбовани калцијум се допрема до базолатералне мембране епителне ћелије цре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5. одатле се транспортује у крвоток преко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/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нтратранспорте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CX1)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л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зависн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TP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з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6.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плазме се филтрира у бубрез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7. 98–99% филитрираног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с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еапсорбује (проксимали тубул, усходни крак Хенлеове петље и дистални тубу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3"/>
          <p:cNvSpPr/>
          <p:nvPr/>
        </p:nvSpPr>
        <p:spPr>
          <a:xfrm>
            <a:off x="3516840" y="1125360"/>
            <a:ext cx="226080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4d33ff"/>
                </a:solidFill>
                <a:latin typeface="Calibri"/>
                <a:ea typeface="Arial"/>
              </a:rPr>
              <a:t>схематски прика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" descr="C:\Users\Vladimir Zivkovic\Desktop\GANONG\SLIKE\XXI POGLAVLjE\PNG\Gan024_Deo_21-01.png"/>
          <p:cNvPicPr/>
          <p:nvPr/>
        </p:nvPicPr>
        <p:blipFill>
          <a:blip r:embed="rId2"/>
          <a:stretch/>
        </p:blipFill>
        <p:spPr>
          <a:xfrm>
            <a:off x="1116000" y="1773360"/>
            <a:ext cx="6624720" cy="35272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5"/>
          <p:cNvSpPr/>
          <p:nvPr/>
        </p:nvSpPr>
        <p:spPr>
          <a:xfrm>
            <a:off x="324000" y="5445000"/>
            <a:ext cx="8604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Комплетан процес транспорта калцијума регулише калцитрио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* Када се преузимање Ca</a:t>
            </a:r>
            <a:r>
              <a:rPr b="0" i="1" lang="ru-RU" sz="16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+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повећава, ниво калцитриол а се смањује као одговор на повећање концентрације Ca</a:t>
            </a:r>
            <a:r>
              <a:rPr b="0" i="1" lang="ru-RU" sz="1600" spc="-1" strike="noStrike" baseline="30000">
                <a:solidFill>
                  <a:srgbClr val="ff0000"/>
                </a:solidFill>
                <a:latin typeface="Calibri"/>
                <a:ea typeface="Arial"/>
              </a:rPr>
              <a:t>2+</a:t>
            </a:r>
            <a:r>
              <a:rPr b="0" i="1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 у плазм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3"/>
          <p:cNvSpPr/>
          <p:nvPr/>
        </p:nvSpPr>
        <p:spPr>
          <a:xfrm>
            <a:off x="2595240" y="1268280"/>
            <a:ext cx="3027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Калцијум (Ca</a:t>
            </a:r>
            <a:r>
              <a:rPr b="1" lang="en-US" sz="2400" spc="-1" strike="noStrike" baseline="30000">
                <a:solidFill>
                  <a:srgbClr val="4d33ff"/>
                </a:solidFill>
                <a:latin typeface="Calibri"/>
                <a:ea typeface="Arial"/>
              </a:rPr>
              <a:t>2+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 у костима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468360" y="2276640"/>
            <a:ext cx="842472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лцијум се налази у костима у два облик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резервоар калцијума који има велики степен измењива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 већи стабилни пул калцијума који се веома споро мењ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ва независна система утичу на ниво калцијума у кос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1. први систем - регулише ниво C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у плазми врши измењивање око 500 mmol Ca</a:t>
            </a:r>
            <a:r>
              <a:rPr b="0" lang="ru-RU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+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дневно у оквиру променљивог пула у кост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. други систем – ремоделовање костију константном интеракцијом ресорпције 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епозиције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3"/>
          <p:cNvSpPr/>
          <p:nvPr/>
        </p:nvSpPr>
        <p:spPr>
          <a:xfrm>
            <a:off x="3710160" y="1268280"/>
            <a:ext cx="19378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Фосфор (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Опште одлике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2276640"/>
            <a:ext cx="8424720" cy="35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сфати се налазе у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Т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,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cAMP-у,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2,3-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DPG,п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отеинима и другим виталним деловима тел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Фосфорилација и дефосфорилација протеина (регулација ћелијске функциј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 скелету налази 85–90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укупна концентрација фосфора у плазми износ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око 3 mol/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ве трећине у органској форми, остатак у облику неорганског фосфора (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)</a:t>
            </a:r>
            <a:r>
              <a:rPr b="0" lang="sr-RS" sz="16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3–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, HPO4</a:t>
            </a:r>
            <a:r>
              <a:rPr b="0" lang="en-US" sz="1600" spc="-1" strike="noStrike" baseline="30000">
                <a:solidFill>
                  <a:srgbClr val="000000"/>
                </a:solidFill>
                <a:latin typeface="Calibri"/>
                <a:ea typeface="Arial"/>
              </a:rPr>
              <a:t>2–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H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2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O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оличина фосфора која физиолошки у току дана уђе у кости износи 3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g (97 </a:t>
            </a:r>
            <a:r>
              <a:rPr b="0" lang="el-GR" sz="1600" spc="-1" strike="noStrike">
                <a:solidFill>
                  <a:srgbClr val="000000"/>
                </a:solidFill>
                <a:latin typeface="Calibri"/>
                <a:ea typeface="Arial"/>
              </a:rPr>
              <a:t>μ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mo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еквивалентна количина фосфора се истовремено евакуише реапсорпцијом из костиј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3"/>
          <p:cNvSpPr/>
          <p:nvPr/>
        </p:nvSpPr>
        <p:spPr>
          <a:xfrm>
            <a:off x="3670560" y="1268280"/>
            <a:ext cx="18738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 </a:t>
            </a:r>
            <a:r>
              <a:rPr b="1" lang="en-US" sz="2400" spc="-1" strike="noStrike">
                <a:solidFill>
                  <a:srgbClr val="4d33ff"/>
                </a:solidFill>
                <a:latin typeface="Calibri"/>
                <a:ea typeface="Arial"/>
              </a:rPr>
              <a:t>Фосфор (Р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d33ff"/>
                </a:solidFill>
                <a:latin typeface="Calibri"/>
                <a:ea typeface="Arial"/>
              </a:rPr>
              <a:t>-Метаболизам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468360" y="2276640"/>
            <a:ext cx="84247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е апсорбује у дуоденуму и танком цреву (натријум зависни трансопртер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Pi-Iib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*транспортер је веома активан у случају ниске интрацелуларне концентрације натријума, која је успостављена дејство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, K ATP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азе на базолатералној мембрани епителних ћелија црева, који транспортује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супротно његовом концентрационом градијент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пут којим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доспева у крвоток још увек није довољно јасан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калцитриол повећава апсорпцију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з плазме се филтрира у гломерулим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85–90% филтрираног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i с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реапсорбује (проксимални тубул-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Pi-IIa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  <a:ea typeface="Arial"/>
              </a:rPr>
              <a:t>и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aPi-Ii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 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PTH </a:t>
            </a:r>
            <a:r>
              <a:rPr b="0" lang="ru-RU" sz="1600" spc="-1" strike="noStrike">
                <a:solidFill>
                  <a:srgbClr val="ff0000"/>
                </a:solidFill>
                <a:latin typeface="Calibri"/>
                <a:ea typeface="Arial"/>
              </a:rPr>
              <a:t>је снажан инхибитор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NaPi-I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01T16:16:54Z</dcterms:created>
  <dc:creator>Maja Jovanovic</dc:creator>
  <dc:description/>
  <dc:language>en-US</dc:language>
  <cp:lastModifiedBy>Jovana Joksimovic</cp:lastModifiedBy>
  <dcterms:modified xsi:type="dcterms:W3CDTF">2021-01-31T18:14:46Z</dcterms:modified>
  <cp:revision>75</cp:revision>
  <dc:subject/>
  <dc:title>ИНТЕГРИСАНЕ АКАДЕМСКЕ СТУДИЈЕ ФАРМАЦИЈЕ  Г04 – Медицинска хемија и дизајн лекова 2</dc:title>
</cp:coreProperties>
</file>